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6864-A735-4E42-95BF-8D7DDD0E9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2493-28DF-4E4B-BC7A-C05B47667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988F-E539-4EDC-99FC-8F1B43176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E25C-117B-4989-8937-C6B362C51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0761-CBAD-463B-8404-395834F3A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7C5E-6290-4767-9FC9-C2973CA2F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8FEA-65BD-42B0-B39A-C82A6BB46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4B59-25BA-40D6-8B42-0D5806D1A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C345-F93C-48ED-AD7B-8E9A1BFD9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FFE6-450C-4723-BAD7-05B9E44FB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F705-7BAD-406E-B142-B0665865A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C64A-2D05-4E4B-93C1-BCCB43E84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7803-161C-4620-8319-7B611FD6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0357-FF16-4C23-92B5-14271005C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883A-CD35-4049-A991-6784D5E5D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FCB7-1D8E-4689-976E-3EA911420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E020-E2EB-447F-88EB-C10DDE174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B057-3C9D-4411-979D-53118434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3148-31FF-4A52-9291-B0FB167F3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EDFF-6709-4B4A-8C0F-406E9C2A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296B-68F3-4CFC-AACC-592C48E99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466A-7C17-4900-9CB5-C45BABF57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1D85-3220-4043-B771-FB7E1469B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4EF4-377E-42B4-8DD2-424C0DE7A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6473-42B7-48A8-B064-02308E885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258-D142-4A0D-9094-A2223989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11B-670B-41CD-9681-F4EC0D5E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BF1-3DC8-448D-8669-F7AC30D5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012-9BE7-4CE5-9E2C-6A8E3C10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74A-2876-4C42-8A55-7032891D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810-BA3E-4DB3-AEC5-4D7B3020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39C-5523-44EA-B468-238BC1DA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36D-E992-4F0E-9108-B647F543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080-44B1-44D8-9ED5-1F08EBC8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79B-842B-4150-A223-2D5C411C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083-69E0-4290-BB9E-9005E254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1E9-2BDB-4C80-B48A-EBB52573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28BE-CAAF-4175-94A5-DF6820458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1980720"/>
            <a:ext cx="6629400" cy="20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Kozuka Mincho Pro L"/>
              </a:rPr>
              <a:t>Electric Drive Vehicles for Mail Delivery: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Kozuka Mincho Pro L"/>
              </a:rPr>
              <a:t>Identifying Ke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6880" y="4038480"/>
            <a:ext cx="5105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Kozuka Mincho Pro 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  <a:ea typeface="Kozuka Mincho Pro L"/>
              </a:rPr>
              <a:t>Michael Ravnitz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  <a:ea typeface="Kozuka Mincho Pro L"/>
              </a:rPr>
              <a:t>May 14, 200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Franklin Gothic Book"/>
                <a:ea typeface="Kozuka Mincho Pro L"/>
              </a:rPr>
              <a:t>Adv. Workshop in Regulation and Compe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  <a:ea typeface="Kozuka Mincho Pro L"/>
              </a:rPr>
              <a:t>CRRI – Rutgers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  <a:ea typeface="Kozuka Mincho Pro L"/>
              </a:rPr>
              <a:t>2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Franklin Gothic Book"/>
                <a:ea typeface="Kozuka Mincho Pro 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  <a:ea typeface="Kozuka Mincho Pro L"/>
              </a:rPr>
              <a:t> Annual Eastern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Reducing Delivery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6668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rastically reduced fuel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duced maintenance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Negotiated electricity purchase at off-peak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Lower overall life-cycl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igh torque means more efficient route tra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Reducing 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moves mobile pollution and fuel cycle e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placed with point sources, scrub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igh stacks in less inhabited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Less employee exposure to pollutants, particu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duced pollution in residential areas and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Reduced Risk of Technological Obsolesc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66680" y="2971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V’s - less risk of technological obsolesc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ower source and drive mechanism are dis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lectric vehicles can retrofit better batt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Battery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66680" y="22093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nergy density (mi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ower density (acceleration/bra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ycle lifespan (charge cy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alendar lifespan (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st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nd there are other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Battery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66680" y="25146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Lithium Iron Phosphate bat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liability and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Mass Manufa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nvironment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Vehicle to Grid (V2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286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rovides ancillary services to wholesale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creases stability of the electric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ermits greater use of variable renewabl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creases quality of electric power, reduces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ostal fleets can offer aggregated electric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USPS Revenue Opport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21333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ostal Service aggregation and sale of V2G services to ISOs/RTOs could bring in revenues of $2000-$2500 per vehicle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Advantages for RTOs/I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21337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ntingency (spinning) re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ncillary service (regulation, balan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Overall grid stability – “islands of stabil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creased competition in wholesale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mproved power quality, phase (R)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Renewable Source Quand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25909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tate and Regulator mandates to add renew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Wind power and solar power are erratic and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dding renewables can lead to power ramping, 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quires either transmission lines or energy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Regulation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25905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he main benefit of V2G is regulation/ancillary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nergy output is incidental to providing regulati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Output duration is shorter than typical tariff 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ariff rules require adjustment for V2G character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Disclai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he views expressed in this paper are those of the author and do not necessarily represent the opinions of the Postal Regulatory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Tariffs to Encourag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Energ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24382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NYISO Energy Storage Filing (March 11, 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roposed Tariff Revisions to Integrate Energy Storage Devices into NYISO-Administered Regulatio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atteries, Flywheel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llows non-traditional resources (LESRs) to participate in the organized markets on fair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What’s need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24379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igorous Cost Analysis of Postal EV Lif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mparison with Baseline USPS Fleet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valuation of Postal Service Routes for EV Sui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iscussions between USPS and RTOs/I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What else is need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25146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mplementation of Suitable Energy Storage Tari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obust Common Interface/Communication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pecifications for USPS Electric Delivery 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Government Involvement to Kickstart 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25142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lectric vehicles are well-suited to postal deli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eployment of an electric drive postal fleet would financially and structurally benefit both the Postal Service and national electrical grid op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he obligation for broader use of renewable energy sources necessitates more energy storage capa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Postscri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5146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>
              <a:lnSpc>
                <a:spcPts val="4198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As a government agency performing a constitutionally-mandated critical public service, the Postal Service should be a first mover on electric vehicles, and be aided in that effort by the federal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160" y="25142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lectric vehicles are well-suited to postal deli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eployment of an electric drive postal fleet would financially and structurally benefit both the Postal Service and national electrical grid op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he obligation for broader use of renewable energy sources necessitates more energy storage capa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1895 – 1915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Electric Vehicl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360" y="2362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Most delivery trucks were elec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Gasoline became cheap and 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evelopment of intercity, rural 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WWI spurred ICE improvement and leftover tru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Postal Service Delivery Fl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Largest civilian fleet with 219,000 vehicles, 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142,000 Long Life Vehicles (LLV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8,000 2-ton walk in tru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26,000 mini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21,000 Flexible Fuel Vehicles (FFV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Many nearing end of vehicle rated lifes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Postal Fleet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top-and-start driving; low speed dr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elivery to every home and business (“the last mi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redictable, repetitive, limited length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rief daily daytime usag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latively low density lightweight 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Varied weather and climat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EV’s Don’t Nee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66680" y="22093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197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istons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ransmission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ngine 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ts val="3197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valves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park plugs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ts val="3197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lutch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xhaust pipes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oil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ts val="3197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fuel pump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fuel filter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ir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ts val="3197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water pump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iming belt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fan b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ts val="3197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muffler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atalytic converter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distribu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Charging Infra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66680" y="22093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Off-peak cha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aily return to a fixed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entralized postal fleet reduces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Flexibility on vehicle charging voltage, p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May require local electric system up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Interior Slides_option3_mbox 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  <a:ea typeface="Kozuka Mincho Pro L"/>
              </a:rPr>
              <a:t>Delivery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66680" y="25905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elivery - the largest single USPS cost compon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$23+ billion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elivery vehicle maintenance and fuel co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$1.4 billion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50000"/>
              </a:lnSpc>
              <a:spcBef>
                <a:spcPts val="1800"/>
              </a:spcBef>
              <a:spcAft>
                <a:spcPts val="15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1.8 million new delivery points are added each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459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0:43:21Z</dcterms:created>
  <dc:creator/>
  <dc:description/>
  <dc:language>en-US</dc:language>
  <cp:lastModifiedBy/>
  <dcterms:modified xsi:type="dcterms:W3CDTF">2009-05-18T16:36:30Z</dcterms:modified>
  <cp:revision>1</cp:revision>
  <dc:subject/>
  <dc:title/>
</cp:coreProperties>
</file>