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dt" idx="37"/>
          </p:nvPr>
        </p:nvSpPr>
        <p:spPr>
          <a:xfrm>
            <a:off x="397044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move the slide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 type="ftr" idx="38"/>
          </p:nvPr>
        </p:nvSpPr>
        <p:spPr>
          <a:xfrm>
            <a:off x="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 type="sldNum" idx="39"/>
          </p:nvPr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EB00-2A6D-416E-8863-8C018367DF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6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7EF51-7BE9-47B7-B016-473BA433B7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0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87561-8677-4A71-A692-2BF897B980A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Slide Number Placeholder 3"/>
          <p:cNvSpPr/>
          <p:nvPr/>
        </p:nvSpPr>
        <p:spPr>
          <a:xfrm>
            <a:off x="3970440" y="882972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E80B8-E0AD-43FF-9FC0-D3DB376904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AB0D0-C17F-453C-A4F5-8470565C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1818D-A21E-4EC2-93D4-70B19EE41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6B3910-569F-442C-969C-70C7F7468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4CCA76-0445-4EF2-AEC7-84135A58D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6E1C5E-E1A4-4B79-8C19-093FC04A9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6C6953-A21F-486E-9B80-8A453DAF9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76E0EC-E1F7-4E0F-9804-6C605D3E3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8221AFA-05D7-49C4-9B77-9F4651446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A37299-788C-40F9-A9A1-4BF403AB8F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51A8C5-3096-4173-A456-8C2252C3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0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1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2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253A84-EFC8-4FC1-AB0A-4DEFCAC78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6469BE34-E079-48F5-AABB-27898EA09B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574C-2700-4D25-9A55-412A04F9E2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FDC49F7-80DB-443D-8743-4051D9E91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13734C7-589B-4057-A30A-E1ADEAF51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2010AD6-FD74-41FC-A35A-8ED244B80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03D3028-8B9F-4D29-BA75-D564650801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ED467AA-F897-45C0-8E32-444E5A390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99200A4-EEE2-4254-B83C-ABEDE0D4B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F710CAA7-65AE-404D-AB9D-DE3E05384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EE89DEF-D671-4393-8B3E-734A02483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A4FA20F4-BC0F-4C8A-8C27-0887E70A0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7D32F695-AAAF-4234-A5B0-524E500FC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2876E-433B-498E-974C-F1D1A0B1C1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1E4FF0E-1C0C-4109-B00D-1EF535934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247B38-B3DC-4BCB-98CD-D26E22121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748ABE-689C-4FF1-8AB5-9FB8875DE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7D972-EA9E-419D-BCA3-21925B7A1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29AFC0-4104-4D73-A4A8-7851C0279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593994-57D4-44E0-8B76-768002D9D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AEE7CB-6829-4C5A-99AD-428E11CB1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296A15-3A76-479E-8AEA-F889C5456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4A56D0-1056-41E1-8484-424F69905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251D8D-95DE-40E6-965E-238CC2719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86284-B303-4F65-8C75-81385AA69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A27423-FB7F-479C-9876-4C98D79F8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2397AD6-6287-4D88-B48B-5CDEFBA60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86C77F-5BD6-4444-99BF-8FF7A7E978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CCE729-6C16-42DA-A2AD-AE1DAC872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B1685C-F75C-4443-B7C0-2466604E1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95F2AE9-3A22-4010-AFBA-0CB189C652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878546-1781-448D-A19A-11571C5FEA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F831CF4-3EEE-4105-855E-371AF89FB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367821-87FE-4B42-B3CB-A217D5D38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9E74E2-E2E2-4856-83E7-0B72FB60F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650B0-DCC1-430C-864F-654609B15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5C875B-D552-4788-8A67-CFF3A0DAA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BC6EA7-B562-4156-B12B-61C2A30DA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9FE19F-3583-42BD-83DA-63886F84E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96BEE5-BA7C-470A-9A1E-569604C01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2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B5A298A-C5F9-43A4-BFF1-DD097D482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E2DA-B6C8-426F-A366-A1A03B255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E0DC8-48DF-4124-8480-1E401D056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5C79A-7C57-4EC0-B977-B30C652212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00AEA-6EBF-407F-AE00-B471A74A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A88CC-1CA5-4040-95C0-FA5770E8E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C3FC-EF8F-40E2-89B2-C09149985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8D9069-4922-4E67-B80E-B80219AF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09D63-D2D1-4361-89A6-9C9275087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E7132-5AE4-4646-AC7A-F5F1FDAA4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0A10-979C-413F-9EA0-2602EF53F3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D96AA-C00E-4A4E-8131-DB35AEAD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540B04-CDBA-4791-88DE-56FBE6B82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30202-BF0E-4F45-9D19-0C11BE3BF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A48F1-7BAA-4716-B779-98E310FB6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5CB5D8-7AC0-4BBA-A97D-14DE50A02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C8A85-6004-4BA4-AA74-CE16B11EB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CCE03-FF24-43FF-9FCC-316E116D0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D5EAD6-52AC-421B-AC5F-BE24A21FC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514055-8C1B-4EFE-8722-C116DC528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0E2F62-AACB-46EB-AE34-F5528EE33A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CC5F99-85AB-4879-94CA-B93CCC41F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36C17C-8DE5-4E93-82FF-CFABF9900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9B96DF-1C5E-4523-8AD0-ECB6DE98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F5A48CE-3DC0-47EA-8762-0DCDC084E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E286B1-0B16-4676-898F-C1D14A945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73EAFB1-CE47-43AC-AE45-62EFFB2C3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D5626F4-7D8E-4D8B-B8E0-74F29411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26D25-01B9-40EC-81B3-C760721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7D736-4ADA-4078-B3C7-52F3A9848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1504F1-1F30-430E-A0DA-0F20BF87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5774EE4-5AE6-4279-93E0-24A3FF58F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A824CCE-5D39-47C3-B705-4AB34A5A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93505B6-CD3C-4567-90BD-E68E8405D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1EDD3E-56AF-4A26-AAA9-EF7F63F7A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D3A2A7A-915B-459B-8AC6-7871C5A3E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85BDD34-A39E-4403-83CC-9518CC138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9535D1A-DF61-47BC-A0CA-4FCD1FF03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AFF8A4-3579-40DD-B824-90DB61F7B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B1C6A-1F66-4806-B515-937A4702D5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399D95F-5428-4BCD-8773-934DA4A38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2CBB217-7D81-4C45-A7ED-4A53FEF7C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081DA35-D70C-43CE-9A96-C7E8D5CC6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9FFB90E-78DC-44A5-8B7B-351BA38D5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D052785-2003-44FA-AAE4-1A59D4236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CBFF76-4E1D-42A0-8F0A-F777E78A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7A27156-EFC5-4150-889F-AA24F3C98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528BB6D-FF1B-4229-A67D-A25939033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C53F8F-0897-4EC2-9D2B-1A0A29137F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86672D-0609-48A2-A697-9357798EC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A2EC9-5F2B-4624-ACA7-A8BBB1DF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22A2FD6-0B60-44FE-A9E5-F7DB89AE2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6B23303-9A4E-4BAC-AFD2-7C804FC44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D660739-E752-4B23-B756-361CA2F8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0F4BEF3-AC96-47CB-9032-C8BB9AA6B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088748-F5E6-46DB-BE8C-B562D3C1A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8EDE625-AEDD-48DA-BCB5-86990AE4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228A0EB-D017-43CC-8F36-985999CB9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FF4F81-DF32-4DE1-8BE7-8798A4C79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34AC1CA-EC2E-4755-B181-D8D5F7812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4B123A4-5F4E-44E2-9AA3-CC4C0F56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A6EB4-9F49-4371-BBF4-898F4EF6A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BA5AC6-17D0-4240-9991-41C641A8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6050847-4F97-45AE-BE69-76AE4A566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62ABBE1-7F7A-4856-B143-3635465D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58835B-5EEE-4EAF-BA77-65AD20D13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89D690-9DFD-4970-82B5-13A0943C9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697270-9BA6-42E9-94BF-A12716812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216BF6-2607-4406-8EBE-5CA68CE64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D307506-3269-4C2A-A218-77EFD31AC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2457-C261-4C2D-B498-AB41635B7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F0A10D-B043-4B99-B02A-9CCA7DB9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9A7E-0772-4EF8-BFDC-3C3F20D28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22F41F-93CB-4999-8143-200EDB71B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6D4771-C0EB-4E47-80B4-A2049DF64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DB0D62-39E4-4804-9916-C76827C8F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C17F45-1070-4B31-B192-A81B06703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522665-7197-48FC-8E15-CE5A822B3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CA7D4F-9AEA-4A43-98EC-9BB51442C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15893-07CB-42EE-BF18-E1710710E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CAE06C-BDB8-42DC-ABE9-5A73F602C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46745A-5F8D-4067-99B8-79EAFE7CF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47C437-C46D-46E2-9B1A-F6EA4772C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F3D9C-E610-4885-B335-B55F1AE7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609120" y="228600"/>
            <a:ext cx="815364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A1EF4-6A0B-4583-990F-BC7FD7BD1B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90D70B-8F7F-4129-9543-E0CA57252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A3C753-2701-43AC-B841-C7F7341C7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5811FB-DB49-4BC0-A435-93ADF55B3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612720" y="3964320"/>
            <a:ext cx="815328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CDD617-494A-484C-BB44-6786DF22E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790880" y="160020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1272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790880" y="3964320"/>
            <a:ext cx="39787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96A787-2EFD-4EF6-8691-77935A4E8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36960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126120" y="160020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6127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36960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126120" y="3964320"/>
            <a:ext cx="26251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979652-4B48-4E96-9A2D-DFF149DF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FD0E71-0060-467B-9763-2FADA59D2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 type="subTitle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C348DC-A8F5-491D-B3A4-FC5B25BC6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3AA9DC-C830-48C6-BB55-524E9BA04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4AC3-DB43-41AA-AC4A-E823928DAD63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30C3E-F769-4E77-A3DB-86728099951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Rectangle 9"/>
          <p:cNvSpPr/>
          <p:nvPr/>
        </p:nvSpPr>
        <p:spPr>
          <a:xfrm>
            <a:off x="-9360" y="45720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4" name="Rectangle 10"/>
          <p:cNvSpPr/>
          <p:nvPr/>
        </p:nvSpPr>
        <p:spPr>
          <a:xfrm>
            <a:off x="-9360" y="4664160"/>
            <a:ext cx="146340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5" name="Rectangle 11"/>
          <p:cNvSpPr/>
          <p:nvPr/>
        </p:nvSpPr>
        <p:spPr>
          <a:xfrm>
            <a:off x="1544760" y="4654440"/>
            <a:ext cx="7599240" cy="7128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6" name="Rectangle 14"/>
          <p:cNvSpPr/>
          <p:nvPr/>
        </p:nvSpPr>
        <p:spPr>
          <a:xfrm>
            <a:off x="1447920" y="0"/>
            <a:ext cx="99720" cy="686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 type="dt" idx="28"/>
          </p:nvPr>
        </p:nvSpPr>
        <p:spPr>
          <a:xfrm>
            <a:off x="6248520" y="6248520"/>
            <a:ext cx="2666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08143-0494-499B-8811-3FA65DA8E2D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 type="sldNum" idx="29"/>
          </p:nvPr>
        </p:nvSpPr>
        <p:spPr>
          <a:xfrm>
            <a:off x="0" y="4667040"/>
            <a:ext cx="1447920" cy="66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D4192-EF09-4601-BBED-1F002B5F1337}" type="slidenum"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 type="ftr" idx="30"/>
          </p:nvPr>
        </p:nvSpPr>
        <p:spPr>
          <a:xfrm>
            <a:off x="1600200" y="6248520"/>
            <a:ext cx="4572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3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518B3-CF5A-484E-8D3A-C0439431295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5740A-FA3F-4A05-BFFA-0C962BC19D37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Rectangle 9"/>
          <p:cNvSpPr/>
          <p:nvPr/>
        </p:nvSpPr>
        <p:spPr>
          <a:xfrm>
            <a:off x="6095880" y="0"/>
            <a:ext cx="32076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3" name="Rectangle 10"/>
          <p:cNvSpPr/>
          <p:nvPr/>
        </p:nvSpPr>
        <p:spPr>
          <a:xfrm>
            <a:off x="6141960" y="609480"/>
            <a:ext cx="228600" cy="62485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4" name="Rectangle 11"/>
          <p:cNvSpPr/>
          <p:nvPr/>
        </p:nvSpPr>
        <p:spPr>
          <a:xfrm>
            <a:off x="6141960" y="0"/>
            <a:ext cx="228600" cy="5335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 type="dt" idx="34"/>
          </p:nvPr>
        </p:nvSpPr>
        <p:spPr>
          <a:xfrm>
            <a:off x="6552720" y="6248520"/>
            <a:ext cx="2210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C5C4-AC9D-41E3-BC0F-9DF142055867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 type="ftr" idx="35"/>
          </p:nvPr>
        </p:nvSpPr>
        <p:spPr>
          <a:xfrm>
            <a:off x="456840" y="6248520"/>
            <a:ext cx="5573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 type="sldNum" idx="36"/>
          </p:nvPr>
        </p:nvSpPr>
        <p:spPr>
          <a:xfrm rot="5400000">
            <a:off x="5989320" y="1443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72D8F-9EEF-479A-8EFE-3E77C5266323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9"/>
          <p:cNvSpPr/>
          <p:nvPr/>
        </p:nvSpPr>
        <p:spPr>
          <a:xfrm>
            <a:off x="0" y="5970600"/>
            <a:ext cx="9144000" cy="88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5" name="Rectangle 10"/>
          <p:cNvSpPr/>
          <p:nvPr/>
        </p:nvSpPr>
        <p:spPr>
          <a:xfrm>
            <a:off x="-9360" y="6053040"/>
            <a:ext cx="2249280" cy="7128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6" name="Rectangle 11"/>
          <p:cNvSpPr/>
          <p:nvPr/>
        </p:nvSpPr>
        <p:spPr>
          <a:xfrm>
            <a:off x="2359080" y="6043680"/>
            <a:ext cx="6784920" cy="71424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eece1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75960" y="6068520"/>
            <a:ext cx="2057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8825E-1AA7-4FB2-B8B2-6A57F2FC6B26}" type="datetime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2085480" y="236520"/>
            <a:ext cx="5867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eeece1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541BE-BEB1-4599-99FF-BEB14CED6308}" type="slidenum">
              <a:rPr b="1" lang="en-US" sz="1400" spc="-1" strike="noStrike">
                <a:solidFill>
                  <a:srgbClr val="eeece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89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0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EB7A3-E410-4450-81D0-E2E7C4294472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4CCBE-1C1C-4841-944C-E47D934F319D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9"/>
          <p:cNvSpPr/>
          <p:nvPr/>
        </p:nvSpPr>
        <p:spPr>
          <a:xfrm>
            <a:off x="0" y="1523880"/>
            <a:ext cx="91440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3" name="Rectangle 10"/>
          <p:cNvSpPr/>
          <p:nvPr/>
        </p:nvSpPr>
        <p:spPr>
          <a:xfrm>
            <a:off x="0" y="1600200"/>
            <a:ext cx="1295280" cy="9907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4" name="Rectangle 11"/>
          <p:cNvSpPr/>
          <p:nvPr/>
        </p:nvSpPr>
        <p:spPr>
          <a:xfrm>
            <a:off x="1371600" y="1600200"/>
            <a:ext cx="7772400" cy="99072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53D6B-5607-42A7-A7FD-20FCEDBC2E8B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sldNum" idx="11"/>
          </p:nvPr>
        </p:nvSpPr>
        <p:spPr>
          <a:xfrm>
            <a:off x="0" y="1752120"/>
            <a:ext cx="1295280" cy="70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D465F-FCBC-401B-B514-ECA4C5328016}" type="slidenum"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2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8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5C276-88E5-4CA1-B4BB-914E830C6FD0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sldNum" idx="14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810FD-AD7F-4328-8834-787C59E9159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ftr" idx="15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1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2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87B2-83FE-498C-BF6B-6E1EAC4F59B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ACE2B-E408-4AFD-BD03-0467BA48AA99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ftr" idx="18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5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6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7793C-5456-4F27-9389-E0B72BFE6195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D1DAB-40EE-414B-B36A-CDBCCED15978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22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3D84-C6FA-4954-92F0-F1778C90D7B9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 type="ftr" idx="23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 type="sldNum" idx="24"/>
          </p:nvPr>
        </p:nvSpPr>
        <p:spPr>
          <a:xfrm>
            <a:off x="0" y="6248520"/>
            <a:ext cx="5335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9D52E-A345-432D-BDDC-DB3AAAF69E46}" type="slidenum">
              <a:rPr b="1" lang="en-US" sz="1400" spc="-1" strike="noStrike">
                <a:solidFill>
                  <a:srgbClr val="1f497d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Rectangle 6"/>
          <p:cNvSpPr/>
          <p:nvPr/>
        </p:nvSpPr>
        <p:spPr>
          <a:xfrm>
            <a:off x="0" y="1235160"/>
            <a:ext cx="9144000" cy="318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0" name="Rectangle 7"/>
          <p:cNvSpPr/>
          <p:nvPr/>
        </p:nvSpPr>
        <p:spPr>
          <a:xfrm>
            <a:off x="0" y="1279440"/>
            <a:ext cx="533520" cy="22860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1" name="Rectangle 8"/>
          <p:cNvSpPr/>
          <p:nvPr/>
        </p:nvSpPr>
        <p:spPr>
          <a:xfrm>
            <a:off x="590400" y="1279440"/>
            <a:ext cx="8553600" cy="228600"/>
          </a:xfrm>
          <a:prstGeom prst="rect">
            <a:avLst/>
          </a:prstGeom>
          <a:solidFill>
            <a:srgbClr val="4f81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1536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lick to edit the title text format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12720" y="1600200"/>
            <a:ext cx="8153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70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700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3" marL="1371600" indent="-228600">
              <a:spcBef>
                <a:spcPts val="700"/>
              </a:spcBef>
              <a:buClr>
                <a:srgbClr val="9bbb5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4" marL="1828800" indent="-228600">
              <a:spcBef>
                <a:spcPts val="700"/>
              </a:spcBef>
              <a:buClr>
                <a:srgbClr val="8064a2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5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6" marL="18288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 type="dt" idx="25"/>
          </p:nvPr>
        </p:nvSpPr>
        <p:spPr>
          <a:xfrm>
            <a:off x="6095520" y="6248520"/>
            <a:ext cx="2667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f497d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63D7-0463-4364-8DA5-D35437740D08}" type="datetime">
              <a:rPr b="0" lang="en-US" sz="1400" spc="-1" strike="noStrike">
                <a:solidFill>
                  <a:srgbClr val="1f497d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 type="ftr" idx="26"/>
          </p:nvPr>
        </p:nvSpPr>
        <p:spPr>
          <a:xfrm>
            <a:off x="609480" y="6248520"/>
            <a:ext cx="54216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356" name="PlaceHolder 5"/>
          <p:cNvSpPr>
            <a:spLocks noGrp="1"/>
          </p:cNvSpPr>
          <p:nvPr>
            <p:ph type="sldNum" idx="27"/>
          </p:nvPr>
        </p:nvSpPr>
        <p:spPr>
          <a:xfrm>
            <a:off x="0" y="1271160"/>
            <a:ext cx="5335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5A6B70-43DC-4A66-A1A3-C0AA1A96082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260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eece1"/>
                </a:solidFill>
                <a:latin typeface="Tw Cen MT"/>
              </a:rPr>
              <a:t>ESTIMATES OF U.S. POSTAL DEMAND ELASTICITIES DERIVED FROM A RANDOM-COEFFICIENTS DISCRETE-CHOICE NORMAL MODEL</a:t>
            </a:r>
            <a:endParaRPr b="0" lang="en-US" sz="4000" spc="-1" strike="noStrike">
              <a:solidFill>
                <a:srgbClr val="eeece1"/>
              </a:solidFill>
              <a:latin typeface="Tw Cen MT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subTitle"/>
          </p:nvPr>
        </p:nvSpPr>
        <p:spPr>
          <a:xfrm>
            <a:off x="2362320" y="6049440"/>
            <a:ext cx="6705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w Cen MT"/>
              </a:rPr>
              <a:t>Margaret M. Cigno, Elena S. Patel and Edward S. Pearsall</a:t>
            </a:r>
            <a:endParaRPr b="0" lang="en-US" sz="2400" spc="-1" strike="noStrike">
              <a:solidFill>
                <a:srgbClr val="ffffff"/>
              </a:solidFill>
              <a:latin typeface="Tw Cen MT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533520" y="5257800"/>
            <a:ext cx="80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The views represented are solely those of the authors and not necessarily those of the Postal Regulatory Commission. 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pic>
        <p:nvPicPr>
          <p:cNvPr id="536" name="Picture 4" descr="Background_with stamps_white bar.jpg"/>
          <p:cNvPicPr/>
          <p:nvPr/>
        </p:nvPicPr>
        <p:blipFill>
          <a:blip r:embed="rId1"/>
          <a:stretch/>
        </p:blipFill>
        <p:spPr>
          <a:xfrm>
            <a:off x="7765920" y="-19080"/>
            <a:ext cx="1463760" cy="2055960"/>
          </a:xfrm>
          <a:prstGeom prst="rect">
            <a:avLst/>
          </a:prstGeom>
          <a:ln w="0">
            <a:noFill/>
          </a:ln>
        </p:spPr>
      </p:pic>
      <p:sp>
        <p:nvSpPr>
          <p:cNvPr id="537" name="Slide Number Placeholder 5"/>
          <p:cNvSpPr/>
          <p:nvPr/>
        </p:nvSpPr>
        <p:spPr>
          <a:xfrm>
            <a:off x="8001000" y="228600"/>
            <a:ext cx="8380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4AC9D-ED6F-4890-B4A3-128B71809FE0}" type="slidenum">
              <a:rPr b="1" lang="en-US" sz="1400" spc="-1" strike="noStrike">
                <a:solidFill>
                  <a:srgbClr val="eeece1"/>
                </a:solidFill>
                <a:latin typeface="Tw Cen MT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0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1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BBABB-04CA-48E1-8E71-EE6601363D2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2" name="Frame 11"/>
          <p:cNvSpPr/>
          <p:nvPr/>
        </p:nvSpPr>
        <p:spPr>
          <a:xfrm>
            <a:off x="22096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3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ouseholds place a higher value on services that permit heavier mailing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75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76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7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F5013-D565-4755-9016-9DE928D4A25D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8" name="Frame 11"/>
          <p:cNvSpPr/>
          <p:nvPr/>
        </p:nvSpPr>
        <p:spPr>
          <a:xfrm>
            <a:off x="3048120" y="3200400"/>
            <a:ext cx="3276360" cy="762120"/>
          </a:xfrm>
          <a:custGeom>
            <a:avLst/>
            <a:gdLst>
              <a:gd name="textAreaLeft" fmla="*/ 46080 w 3276360"/>
              <a:gd name="textAreaRight" fmla="*/ 3230280 w 327636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3276600" h="762000">
                <a:moveTo>
                  <a:pt x="0" y="0"/>
                </a:moveTo>
                <a:lnTo>
                  <a:pt x="3276600" y="0"/>
                </a:lnTo>
                <a:lnTo>
                  <a:pt x="32766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3230514" y="715914"/>
                </a:lnTo>
                <a:lnTo>
                  <a:pt x="32305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79" name="TextBox 12"/>
          <p:cNvSpPr/>
          <p:nvPr/>
        </p:nvSpPr>
        <p:spPr>
          <a:xfrm>
            <a:off x="609480" y="441972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Cards and Parcels are the most highly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Flats are the least valued shape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Mean Indirect Utility 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1" name=""/>
          <p:cNvGraphicFramePr/>
          <p:nvPr/>
        </p:nvGraphicFramePr>
        <p:xfrm>
          <a:off x="304920" y="2320920"/>
          <a:ext cx="8474040" cy="1641600"/>
        </p:xfrm>
        <a:graphic>
          <a:graphicData uri="http://schemas.openxmlformats.org/drawingml/2006/table">
            <a:tbl>
              <a:tblPr/>
              <a:tblGrid>
                <a:gridCol w="1066680"/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W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Weight/ Pie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Letter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Card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Fla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arcel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Preso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Distan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er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Alp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1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2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3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4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 (X5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6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7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Beta(X8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oeffici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5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.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5.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.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.9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2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2.3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T-Val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4.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13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5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76.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4.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69.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4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4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32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582" name="TextBox 7"/>
          <p:cNvSpPr/>
          <p:nvPr/>
        </p:nvSpPr>
        <p:spPr>
          <a:xfrm>
            <a:off x="3352680" y="1752480"/>
            <a:ext cx="243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w Cen MT"/>
              </a:rPr>
              <a:t>Table 1a </a:t>
            </a:r>
            <a:endParaRPr b="0" lang="en-US" sz="2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3" name="Slide Number Placeholder 10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24A8DC-FA63-4547-AC74-8971DCC0C16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4" name="Frame 11"/>
          <p:cNvSpPr/>
          <p:nvPr/>
        </p:nvSpPr>
        <p:spPr>
          <a:xfrm>
            <a:off x="6324480" y="3200400"/>
            <a:ext cx="838440" cy="762120"/>
          </a:xfrm>
          <a:custGeom>
            <a:avLst/>
            <a:gdLst>
              <a:gd name="textAreaLeft" fmla="*/ 46080 w 838440"/>
              <a:gd name="textAreaRight" fmla="*/ 792360 w 838440"/>
              <a:gd name="textAreaTop" fmla="*/ 46080 h 762120"/>
              <a:gd name="textAreaBottom" fmla="*/ 716040 h 762120"/>
            </a:gdLst>
            <a:ahLst/>
            <a:rect l="textAreaLeft" t="textAreaTop" r="textAreaRight" b="textAreaBottom"/>
            <a:pathLst>
              <a:path w="838200" h="762000">
                <a:moveTo>
                  <a:pt x="0" y="0"/>
                </a:moveTo>
                <a:lnTo>
                  <a:pt x="838200" y="0"/>
                </a:lnTo>
                <a:lnTo>
                  <a:pt x="838200" y="762000"/>
                </a:lnTo>
                <a:lnTo>
                  <a:pt x="0" y="762000"/>
                </a:lnTo>
                <a:close/>
                <a:moveTo>
                  <a:pt x="46086" y="46086"/>
                </a:moveTo>
                <a:lnTo>
                  <a:pt x="46086" y="715914"/>
                </a:lnTo>
                <a:lnTo>
                  <a:pt x="792114" y="715914"/>
                </a:lnTo>
                <a:lnTo>
                  <a:pt x="792114" y="46086"/>
                </a:lnTo>
                <a:close/>
              </a:path>
            </a:pathLst>
          </a:cu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85" name="TextBox 12"/>
          <p:cNvSpPr/>
          <p:nvPr/>
        </p:nvSpPr>
        <p:spPr>
          <a:xfrm>
            <a:off x="609480" y="441972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flects a preference for mail that may be workshared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resortation allows for a more efficient division of mail prepar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s also associated with many other advantag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Bulk entry, simplified weight-based payment, faster service, etc.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Selected Results – Elasticity Estimate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graphicFrame>
        <p:nvGraphicFramePr>
          <p:cNvPr id="587" name=""/>
          <p:cNvGraphicFramePr/>
          <p:nvPr/>
        </p:nvGraphicFramePr>
        <p:xfrm>
          <a:off x="533520" y="1981080"/>
          <a:ext cx="7848360" cy="4008600"/>
        </p:xfrm>
        <a:graphic>
          <a:graphicData uri="http://schemas.openxmlformats.org/drawingml/2006/table">
            <a:tbl>
              <a:tblPr/>
              <a:tblGrid>
                <a:gridCol w="617400"/>
                <a:gridCol w="1744560"/>
                <a:gridCol w="731880"/>
                <a:gridCol w="731880"/>
                <a:gridCol w="730440"/>
                <a:gridCol w="731520"/>
                <a:gridCol w="731880"/>
                <a:gridCol w="731880"/>
                <a:gridCol w="10969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7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9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(1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S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w Cen MT"/>
                        </a:rPr>
                        <a:t>Thress (USPS 2012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ingle-Piec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4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4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8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89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063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First-Class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reSor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3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5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6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436 (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92 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459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7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Periodicals (In County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6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2.9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35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6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87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1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9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Non 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7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1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8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25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65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(10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Standar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Carrier Rou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Letters, Flats and Card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19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00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0.2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1.44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33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78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w Cen MT"/>
                        </a:rPr>
                        <a:t>-0.542 (NP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w Cen MT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3cddd"/>
                    </a:solidFill>
                  </a:tcPr>
                </a:tc>
              </a:tr>
            </a:tbl>
          </a:graphicData>
        </a:graphic>
      </p:graphicFrame>
      <p:sp>
        <p:nvSpPr>
          <p:cNvPr id="588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87556-CB38-4457-9169-6C493C61EF51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reliminary Conclus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0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43A35-B8DD-4121-A995-B666D782B0E4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612720" y="1599840"/>
            <a:ext cx="81532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We have found a model and methodology for estimating elasticities across all postal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tatistical properties of the model are quite good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igns of coefficients conform to expectation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U.S. postal products are much more sensitive to demand than conventional models estimate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nventional models yield estimates that combine the effects of own and all cross-price elastici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Results should be regarded as the early results of an initial explora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Future Work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93" name="Slide Number Placeholder 2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DEF9A-1E4F-43A3-95AD-F743BD4525B0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94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02760" indent="-3027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Our application of the Random-Coefficient Discrete-Choice Normal mode leaves room for improvement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fit the model using quarterly data with post PAEA definitions of mail class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demographic variabl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ould include a broader set of hedonic properti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fficiency of the estimation methodology could be improved through generalized least squar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07680" indent="-25920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Conventional Demand Model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Poorly suited to estimate elasticities in markets with many similar product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Automobiles, Breakfast Cereals, Postal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Conventional Model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Employs a demand model for each produc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Should include the price of all relevant produc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Brings rise to familiar econometric problems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Burdensome data requirement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Prices of many products are highly correlated 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Cross-Price elasticity estimation requires large sample size with sufficient variation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0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F2CAC8-1058-4208-9BC2-CFCA4489F1C7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Conventional Postal Demand Models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hese problems are not unfamiliar to postal practitioner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(US) data are typically quarterly national aggregates from 1971 to presen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al postal rates tend to change together due to inflation and coordination imposed by price cap regulation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U.S. Postal Service products divide into at least 15 different categories with distinct hedonic properties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Typically, models are fit including only </a:t>
            </a:r>
            <a:r>
              <a:rPr b="1" lang="en-US" sz="2700" spc="-1" strike="noStrike">
                <a:solidFill>
                  <a:srgbClr val="000000"/>
                </a:solidFill>
                <a:latin typeface="Tw Cen MT"/>
              </a:rPr>
              <a:t>own-price 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ata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569160" indent="-24264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Avoids multicolinearity problem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83680" indent="-28368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Result is an incomplete set of postal price elasticity estimates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9D2E-2E4F-4BCF-8E78-518DA3500C4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BLP Solution?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Berry </a:t>
            </a:r>
            <a:r>
              <a:rPr b="0" i="1" lang="en-US" sz="2700" spc="-1" strike="noStrike">
                <a:solidFill>
                  <a:srgbClr val="000000"/>
                </a:solidFill>
                <a:latin typeface="Tw Cen MT"/>
              </a:rPr>
              <a:t>et al</a:t>
            </a: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 (1995) introduce a Random-Coefficient Discrete-Choice Logit Model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Individual choice model used to estimate demand in a differentiated products market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Requires only market-level data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Known to produce cross-price elasticities that reflect realistic substitution patterns 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Current “model du jour” in the Industrial Organization literature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Largely based on the version presented by Nevo (2000, 2001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Has yet to be tried in the Postal Sector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4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9BE60-F743-4F2D-B36B-4867F90DE67F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The Guts of the Model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457200" y="243828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18960" indent="-318960"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w Cen MT"/>
              </a:rPr>
              <a:t>Linear Utility Function</a:t>
            </a:r>
            <a:endParaRPr b="0" lang="en-US" sz="29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Two Mean-Centered Disturbance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w Cen MT"/>
              </a:rPr>
              <a:t>Random Coefficients</a:t>
            </a:r>
            <a:endParaRPr b="0" lang="en-US" sz="2600" spc="-1" strike="noStrike">
              <a:solidFill>
                <a:srgbClr val="000000"/>
              </a:solidFill>
              <a:latin typeface="Tw Cen MT"/>
            </a:endParaRPr>
          </a:p>
          <a:p>
            <a:pPr lvl="2" marL="914400" indent="-228600"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Gains or losses to household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i</a:t>
            </a:r>
            <a:r>
              <a:rPr b="0" lang="en-US" sz="2300" spc="-1" strike="noStrike">
                <a:solidFill>
                  <a:srgbClr val="000000"/>
                </a:solidFill>
                <a:latin typeface="Tw Cen MT"/>
              </a:rPr>
              <a:t> when purchasing and consuming product </a:t>
            </a:r>
            <a:r>
              <a:rPr b="0" i="1" lang="en-US" sz="2300" spc="-1" strike="noStrike">
                <a:solidFill>
                  <a:srgbClr val="000000"/>
                </a:solidFill>
                <a:latin typeface="Tw Cen MT"/>
              </a:rPr>
              <a:t>j </a:t>
            </a: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  <a:p>
            <a:pPr lvl="1" marL="639720" indent="-272880"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Tw Cen MT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9" name="Object 3"/>
              <p:cNvSpPr txBox="1"/>
              <p:nvPr/>
            </p:nvSpPr>
            <p:spPr>
              <a:xfrm>
                <a:off x="665280" y="1727280"/>
                <a:ext cx="7735680" cy="558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ξ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β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Π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sSub>
                          <m:e>
                            <m:r>
                              <m:t xml:space="preserve">D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d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550" name="Slide Number Placeholder 5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4954C-137A-4E14-A02A-37E61437BCA2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BLP: The Good and the Bad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456840" y="1523520"/>
            <a:ext cx="83818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Good News!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conforms well to economic theory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Is not overly restrictive with respect to price elasticity estimate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Bad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Model was designed for “big ticket” item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2" marL="896040" indent="-223920">
              <a:lnSpc>
                <a:spcPct val="80000"/>
              </a:lnSpc>
              <a:spcBef>
                <a:spcPts val="499"/>
              </a:spcBef>
              <a:buClr>
                <a:srgbClr val="c0504d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w Cen MT"/>
              </a:rPr>
              <a:t>Requires distribution of mean-centered demographic variables and measurements of hedonic properties</a:t>
            </a:r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We do not observe indirect utility, individual income, or consumer surplus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Fitting the model involves integrating out all of the random terms except for the mean disturbance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requires a simulation to extract mean indirect utilities by matching market share data (slow!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marL="312480" indent="-31248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uch Worse News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BLP/Nevo is itself an algorithm 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w Cen MT"/>
              </a:rPr>
              <a:t>Repeated calculation of mean indirect utilities is required to fit the model (may take days or weeks to run)</a:t>
            </a: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  <a:p>
            <a:pPr lvl="1" marL="626760" indent="-26712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3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046F9-1BA4-4A1E-B5DA-67897FD417B5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A Modified BLP Solution!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457200" y="1523520"/>
            <a:ext cx="8229600" cy="541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discovered a way to revise the model and greatly simplify/speed up the estimation process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replace the demographic variables with their principal components 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transformation forms a linear combination of variables that are </a:t>
            </a:r>
            <a:r>
              <a:rPr b="0" i="1" lang="en-US" sz="2200" spc="-1" strike="noStrike">
                <a:solidFill>
                  <a:srgbClr val="000000"/>
                </a:solidFill>
                <a:latin typeface="Tw Cen MT"/>
              </a:rPr>
              <a:t>iid</a:t>
            </a: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 N(0,1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ith this change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simulation is replaced with a single-variable numerical integr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The estimation method is replaced with a Newton-Raphson method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Model can now be fit in under 12 hours with a moderately-sized postal application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marL="309240" indent="-309240">
              <a:lnSpc>
                <a:spcPct val="8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w Cen MT"/>
              </a:rPr>
              <a:t>We will ultimately split this paper in two</a:t>
            </a:r>
            <a:endParaRPr b="0" lang="en-US" sz="25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1 – Model and Methodology (Sections 1-6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w Cen MT"/>
              </a:rPr>
              <a:t>Paper # 2 – Postal Application (Sections 7,8, and Appendix)</a:t>
            </a: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  <a:p>
            <a:pPr lvl="1" marL="620280" indent="-264600">
              <a:lnSpc>
                <a:spcPct val="8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6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ED847-C5A8-41CC-BBFB-397154606F1C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1f497d"/>
                </a:solidFill>
                <a:latin typeface="Tw Cen MT"/>
              </a:rPr>
              <a:t>U.S. Postal Service Application – The Data</a:t>
            </a:r>
            <a:endParaRPr b="0" lang="en-US" sz="4000" spc="-1" strike="noStrike">
              <a:solidFill>
                <a:srgbClr val="1f497d"/>
              </a:solidFill>
              <a:latin typeface="Tw Cen MT"/>
            </a:endParaRPr>
          </a:p>
        </p:txBody>
      </p:sp>
      <p:sp>
        <p:nvSpPr>
          <p:cNvPr id="558" name=""/>
          <p:cNvSpPr txBox="1"/>
          <p:nvPr/>
        </p:nvSpPr>
        <p:spPr>
          <a:xfrm>
            <a:off x="612720" y="1600200"/>
            <a:ext cx="81532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We fit the model using both a fixed-weight index (FWI) and revenues per piece (RPP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Model was fit using 40-year time series PFY 1972 to PFY 2011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Hedonic properties are taken from Pearsall and Trozzo (2011)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Measures are based on the U.S. Postal Service mail stream during PFY 2009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marL="299520" indent="-299520">
              <a:lnSpc>
                <a:spcPct val="90000"/>
              </a:lnSpc>
              <a:spcBef>
                <a:spcPts val="700"/>
              </a:spcBef>
              <a:buClr>
                <a:srgbClr val="c0504d"/>
              </a:buClr>
              <a:buSzPct val="6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w Cen MT"/>
              </a:rPr>
              <a:t>Demographic variables suggested by conventional econometric studies of U.S. postal demand</a:t>
            </a:r>
            <a:endParaRPr b="0" lang="en-US" sz="27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w Cen MT"/>
              </a:rPr>
              <a:t>Pearsall (2005, 2011) and Thress (2012)</a:t>
            </a: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  <a:p>
            <a:pPr lvl="1" marL="601200" indent="-256320">
              <a:lnSpc>
                <a:spcPct val="90000"/>
              </a:lnSpc>
              <a:spcBef>
                <a:spcPts val="550"/>
              </a:spcBef>
              <a:buClr>
                <a:srgbClr val="4f81bd"/>
              </a:buClr>
              <a:buSzPct val="70000"/>
              <a:buFont typeface="Wingdings 2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59" name="Slide Number Placeholder 3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30D9C-78FE-4A6C-BB65-A530A735A13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12720" y="228600"/>
            <a:ext cx="81532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1f497d"/>
                </a:solidFill>
                <a:latin typeface="Tw Cen MT"/>
              </a:rPr>
              <a:t>Postal Application-Definitions</a:t>
            </a:r>
            <a:endParaRPr b="0" lang="en-US" sz="4400" spc="-1" strike="noStrike">
              <a:solidFill>
                <a:srgbClr val="1f497d"/>
              </a:solidFill>
              <a:latin typeface="Tw Cen MT"/>
            </a:endParaRPr>
          </a:p>
        </p:txBody>
      </p:sp>
      <p:pic>
        <p:nvPicPr>
          <p:cNvPr id="561" name="Picture 4" descr=""/>
          <p:cNvPicPr/>
          <p:nvPr/>
        </p:nvPicPr>
        <p:blipFill>
          <a:blip r:embed="rId1"/>
          <a:srcRect l="0" t="6257" r="55092" b="32465"/>
          <a:stretch/>
        </p:blipFill>
        <p:spPr>
          <a:xfrm>
            <a:off x="228600" y="1523880"/>
            <a:ext cx="4295880" cy="350532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4" descr=""/>
          <p:cNvPicPr/>
          <p:nvPr/>
        </p:nvPicPr>
        <p:blipFill>
          <a:blip r:embed="rId2"/>
          <a:srcRect l="46961" t="6064" r="4886" b="37378"/>
          <a:stretch/>
        </p:blipFill>
        <p:spPr>
          <a:xfrm>
            <a:off x="4419720" y="1523880"/>
            <a:ext cx="4487760" cy="335304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"/>
          <p:cNvPicPr/>
          <p:nvPr/>
        </p:nvPicPr>
        <p:blipFill>
          <a:blip r:embed="rId3"/>
          <a:srcRect l="1885" t="71218" r="21836" b="0"/>
          <a:stretch/>
        </p:blipFill>
        <p:spPr>
          <a:xfrm>
            <a:off x="1066680" y="5065560"/>
            <a:ext cx="7315200" cy="1716120"/>
          </a:xfrm>
          <a:prstGeom prst="rect">
            <a:avLst/>
          </a:prstGeom>
          <a:ln w="0">
            <a:noFill/>
          </a:ln>
        </p:spPr>
      </p:pic>
      <p:sp>
        <p:nvSpPr>
          <p:cNvPr id="564" name="Slide Number Placeholder 6"/>
          <p:cNvSpPr/>
          <p:nvPr/>
        </p:nvSpPr>
        <p:spPr>
          <a:xfrm>
            <a:off x="0" y="1271520"/>
            <a:ext cx="5335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859A6-9A73-4FC1-86A9-7882E36BA3C3}" type="slidenum">
              <a:rPr b="1" lang="en-US" sz="1200" spc="-1" strike="noStrike">
                <a:solidFill>
                  <a:srgbClr val="ffffff"/>
                </a:solidFill>
                <a:latin typeface="Tw Cen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5" name="Frame 9"/>
          <p:cNvSpPr/>
          <p:nvPr/>
        </p:nvSpPr>
        <p:spPr>
          <a:xfrm>
            <a:off x="4800600" y="1752480"/>
            <a:ext cx="2819520" cy="609840"/>
          </a:xfrm>
          <a:custGeom>
            <a:avLst/>
            <a:gdLst>
              <a:gd name="textAreaLeft" fmla="*/ 46440 w 2819520"/>
              <a:gd name="textAreaRight" fmla="*/ 2773080 w 2819520"/>
              <a:gd name="textAreaTop" fmla="*/ 46440 h 609840"/>
              <a:gd name="textAreaBottom" fmla="*/ 563400 h 609840"/>
            </a:gdLst>
            <a:ahLst/>
            <a:rect l="textAreaLeft" t="textAreaTop" r="textAreaRight" b="textAreaBottom"/>
            <a:pathLst>
              <a:path w="2819400" h="609600">
                <a:moveTo>
                  <a:pt x="0" y="0"/>
                </a:moveTo>
                <a:lnTo>
                  <a:pt x="2819400" y="0"/>
                </a:lnTo>
                <a:lnTo>
                  <a:pt x="28194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2772699" y="562899"/>
                </a:lnTo>
                <a:lnTo>
                  <a:pt x="27726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6" name="Frame 10"/>
          <p:cNvSpPr/>
          <p:nvPr/>
        </p:nvSpPr>
        <p:spPr>
          <a:xfrm>
            <a:off x="4724280" y="2971800"/>
            <a:ext cx="3962520" cy="990720"/>
          </a:xfrm>
          <a:custGeom>
            <a:avLst/>
            <a:gdLst>
              <a:gd name="textAreaLeft" fmla="*/ 75600 w 3962520"/>
              <a:gd name="textAreaRight" fmla="*/ 3886920 w 3962520"/>
              <a:gd name="textAreaTop" fmla="*/ 75600 h 990720"/>
              <a:gd name="textAreaBottom" fmla="*/ 915120 h 990720"/>
            </a:gdLst>
            <a:ahLst/>
            <a:rect l="textAreaLeft" t="textAreaTop" r="textAreaRight" b="textAreaBottom"/>
            <a:pathLst>
              <a:path w="3962400" h="990600">
                <a:moveTo>
                  <a:pt x="0" y="0"/>
                </a:moveTo>
                <a:lnTo>
                  <a:pt x="3962400" y="0"/>
                </a:lnTo>
                <a:lnTo>
                  <a:pt x="3962400" y="990600"/>
                </a:lnTo>
                <a:lnTo>
                  <a:pt x="0" y="990600"/>
                </a:lnTo>
                <a:close/>
                <a:moveTo>
                  <a:pt x="75890" y="75890"/>
                </a:moveTo>
                <a:lnTo>
                  <a:pt x="75890" y="914710"/>
                </a:lnTo>
                <a:lnTo>
                  <a:pt x="3886510" y="914710"/>
                </a:lnTo>
                <a:lnTo>
                  <a:pt x="3886510" y="7589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  <p:sp>
        <p:nvSpPr>
          <p:cNvPr id="567" name="Frame 11"/>
          <p:cNvSpPr/>
          <p:nvPr/>
        </p:nvSpPr>
        <p:spPr>
          <a:xfrm>
            <a:off x="4724280" y="3962520"/>
            <a:ext cx="4191120" cy="609480"/>
          </a:xfrm>
          <a:custGeom>
            <a:avLst/>
            <a:gdLst>
              <a:gd name="textAreaLeft" fmla="*/ 46440 w 4191120"/>
              <a:gd name="textAreaRight" fmla="*/ 4144680 w 4191120"/>
              <a:gd name="textAreaTop" fmla="*/ 46440 h 609480"/>
              <a:gd name="textAreaBottom" fmla="*/ 563040 h 609480"/>
            </a:gdLst>
            <a:ahLst/>
            <a:rect l="textAreaLeft" t="textAreaTop" r="textAreaRight" b="textAreaBottom"/>
            <a:pathLst>
              <a:path w="4191000" h="609600">
                <a:moveTo>
                  <a:pt x="0" y="0"/>
                </a:moveTo>
                <a:lnTo>
                  <a:pt x="4191000" y="0"/>
                </a:lnTo>
                <a:lnTo>
                  <a:pt x="4191000" y="609600"/>
                </a:lnTo>
                <a:lnTo>
                  <a:pt x="0" y="609600"/>
                </a:lnTo>
                <a:close/>
                <a:moveTo>
                  <a:pt x="46701" y="46701"/>
                </a:moveTo>
                <a:lnTo>
                  <a:pt x="46701" y="562899"/>
                </a:lnTo>
                <a:lnTo>
                  <a:pt x="4144299" y="562899"/>
                </a:lnTo>
                <a:lnTo>
                  <a:pt x="4144299" y="4670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w Cen MT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22T18:03:00Z</dcterms:created>
  <dc:creator>pateles</dc:creator>
  <dc:description/>
  <dc:language>en-US</dc:language>
  <cp:lastModifiedBy>ANASIELT</cp:lastModifiedBy>
  <dcterms:modified xsi:type="dcterms:W3CDTF">2012-07-12T17:19:21Z</dcterms:modified>
  <cp:revision>156</cp:revision>
  <dc:subject/>
  <dc:title>Estimates of U.S. Postal Demand Elasticities Derived from a Random-Coefficients Discrete-Choice Normal Model</dc:title>
</cp:coreProperties>
</file>