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2264EF-D710-4B93-AC17-672E74C0C43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783E3C-2DD8-42D3-B7B8-A7A2192E895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E54247-78E1-4DFD-B1A0-1128C7D7CA8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B36E-4D9B-462D-9645-C9EDF6B64D5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B481C2-611C-40A8-91CB-6271D7059D5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9FE4-C1FC-47B9-9A12-E0AA338BF1D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3138-3C87-4CE1-A933-058A1E0E8CE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52E8-0059-420A-BD04-43F087176FC9}"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79CD-BF67-4AA9-B281-DA47B998882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F354-8BCF-4802-BA8E-C5BAC2688BF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530F-FF02-4392-9BEF-6FE4137445D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DCD3A93-4C7D-4746-A425-1692216CC73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08CE-2ED5-4579-B444-B6FBA60E9EB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A259BAF-026C-4C11-A1CB-16AEFE9F01C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297D4-1330-414C-92A1-5114F498E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38FF8-F603-4A5A-A44B-6321EAFED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EE2D7-63B2-4103-9DF4-672FF1060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60BAC-13A9-4F2A-8216-5C74D2E05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8E543-9E16-4D4C-B846-46C3597A8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5E788-66F6-4203-A314-898E1F22C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F024D-E8AF-4990-A579-3A87A5C70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9A508-0DBE-4FA5-97FD-3BB94B091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B3064-C3F7-472F-A30F-53F3F558E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46C4-2053-4C9E-A2CC-3107CB88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D692F-84C9-4399-B30B-109A3ADD1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5208-984C-41DA-BA07-D9D0570E0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2B3C-846F-46E9-9E8D-B08E3430DD16}" type="datetime">
              <a:rPr b="0" lang="en-US" sz="1200" spc="-1" strike="noStrike">
                <a:solidFill>
                  <a:srgbClr val="898989"/>
                </a:solidFill>
                <a:latin typeface="Calibri"/>
              </a:rPr>
              <a:t>07/29/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C798-B0D3-48E3-980C-58E0E407CC3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7714-CD93-4E05-98CC-233E0B3F236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6D63-F34E-4089-AB50-9DFF15598D4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4A97-6C62-433F-95E3-5328863B2EA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DB8D-EF69-4A54-82F4-0AAEF77CE80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C026-E434-4A0F-85FE-72CC1D7303B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BEF7-0220-4C54-867C-0F1363F1EAF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E414-B64B-4269-80F6-D8610571839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DC59-C6A2-464B-A2B1-56F8CED563F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3CF8-DE29-4D93-A906-79041E58FE1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E9FC-99B1-4F9E-9912-08D89D846E5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F256-863D-4AC7-A0C7-2DEE3A8D53E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525C-A9CD-4197-93E3-22E722E1BF1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D828-B26A-40F0-B2AD-8362DDF49B4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86A3-E74B-4D54-825E-FF727E52EB0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D382-5783-428C-873B-ED9AC5C4547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BA02-F698-4448-A263-1080C116033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370C-0626-4AD5-BBBF-0405B81A881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2733-69FD-4285-B95E-00D0080DEC1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67A9-B3FB-4FE6-8A9D-BC68A214946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8CE8-5102-4546-AE37-6FED6001CAB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8970-8273-401A-9F5E-8397206B53F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