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A9D711-5D35-4DF1-96A6-FA4890ED0B3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00CCD3-C025-416D-9FC9-EFC0CB5F42E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C078C6-31B3-4F97-AA0D-37BCEDD0112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7F74-49A1-490F-92BC-56221C32930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2D7785-2AE6-454D-AAA3-6FFD6E42632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D7DF-2B4B-4BB0-992C-5CA30DF2082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FD87-662C-40C1-9111-7A5E17EB1E8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10BF-493A-417F-B175-DE55C32B911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4BAA-3DA0-415D-9C3C-DE040814649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A507-8B23-4FBC-9146-C9872949102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FA8D-5D3F-428D-A043-6452EF99C51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10463C6-81EB-4466-AA42-E03729EFE29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DD2B-F028-4667-97E5-5942C4897C5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EF82E0C-7E7C-40C5-83B7-4B06438346B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C45BD-DC7D-42DA-A9D9-C1124F1C8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36121-DA98-4699-94C9-0CD0C7DE3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D6298-5B7E-4A21-8447-E7E3C20B1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9E69A-8D1A-4F13-A45B-EAF1381DC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91BEB-DA2D-420E-8290-611D3CA49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F68D1-149E-44DE-87E0-44EDE23E7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01D41-42BD-421A-888A-3394D9BFC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0F9F3-C7CE-44BD-8F96-6B2CB8A27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643C4-DD10-4CCF-99BD-2EA449565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32443-551D-4B74-B315-E9821F62F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581DC-B937-4075-A1EF-F8C461C9A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A0F0A-FB1C-44F2-A2E9-5CBE07FC6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7939-D7A0-4971-8F47-81370B128D77}" type="datetime">
              <a:rPr b="0" lang="en-US" sz="1200" spc="-1" strike="noStrike">
                <a:solidFill>
                  <a:srgbClr val="898989"/>
                </a:solidFill>
                <a:latin typeface="Calibri"/>
              </a:rPr>
              <a:t>07/29/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4896-95DD-42FB-8A95-3119C720FF6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7D78-D38D-4AC0-AB0E-3D30CAB3DE5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2D92-B994-46A6-91AD-8E919567F84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9EFF-BC82-4AAF-A15A-CD923FA9B3A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4AE9-871A-4480-AB49-3C949536AD5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FC70-F579-446D-BAEB-247ABD70912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CE5B-CE05-4523-BBE1-647534FBDA6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B32A-CB2F-4532-A8D2-0D511EF7A5B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9BB3-8A4E-4286-9F1A-2F3398829C1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94A9-4B05-4CF7-A772-0FB1B16EB00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C3AD-56EE-49C9-A492-0A6324C3940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21A1-4BF9-4390-A1A3-7F47E886651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97C4-114B-429A-80FC-ACC1D9C35C5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9D92-FA60-4EA7-9368-CF790E0C2CB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BB95-8C5D-42A3-8A4E-36CB9F65F72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8C93-2BE4-4DC3-BC6F-3A7E44C4369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4381-AE4F-4900-920A-51E89AF6D49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FAC5-10FE-4F8F-A450-8F2F4616E64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D8EE-AEE6-40EA-ACC8-A5459303754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FF3F-9BCE-4DD8-BF51-27F4779C362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C1A6-EDAD-40F8-8EE3-BFC616C80F0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6D1A-E500-437F-BC7A-644237D556A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