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EE09B0-3F60-485E-9FC6-CBAC213B9D7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863FF8-6480-4C6E-A218-E9FCD577CBF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224B29-9689-4E24-B100-0C902889FA0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5718-D393-415C-958C-20180131FD3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5CC227-416C-471D-A743-C46EF305DF8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1F25-6E03-4BD4-8E78-E096A20BBEE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6AA5-FB19-4559-B1A6-7073E60E64D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90E5-A989-4B70-AA00-2EA3F43401D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D390-7EE6-43DA-AA2F-5E75DC3AEDD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88B3-2F47-4744-9714-32B2B53B59A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98CB-F360-448F-A826-9B6ADBD8CC8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410DCEC-326B-424C-8647-ADC0D9E0E11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D134-01BC-436E-BC0B-46710934BF3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70B3236-93F5-4FA2-8721-37CCB774D7A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31003-BE3F-4110-9AD4-B4EBD611E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6D1D1-C908-4EBD-8EF6-A75FC25D8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DDD0D-A75D-4FAC-8413-574E19EC6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BA98F-490C-435F-9737-92EE89D60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98FA6-BFDE-486E-A184-9DA092952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AF298-985E-42A8-9C4C-3ACDE1FC4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B296D-C35E-4DC3-9411-22007EF89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1D0DE-F489-4068-A8A2-F81B29AE2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0E785-0B2D-4739-A99B-C98F00064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C4F6E-2F54-4FCE-8BEB-BFB460A57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FE5B3-012B-4E91-8CB0-BA613CE2C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80EDA-468B-47B6-B8D8-6425D43A6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6FC3-CFBD-4BF0-B6C6-324782DC07B4}" type="datetime">
              <a:rPr b="0" lang="en-US" sz="1200" spc="-1" strike="noStrike">
                <a:solidFill>
                  <a:srgbClr val="898989"/>
                </a:solidFill>
                <a:latin typeface="Calibri"/>
              </a:rPr>
              <a:t>07/29/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3CBA-07FE-4243-B567-D645EDCA38F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B789-B929-4AF1-94E9-133DBB7411F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C721-039B-4CEC-A3FA-15AC67985E1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EF32-C9D4-4B69-83ED-D81920B419D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66D4-13A2-4EC5-846D-CB6785E3269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95AE-B930-4AA7-ACC8-7356A13000E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2F8C-DE96-4385-BB40-F5B69F17D60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62D7-4BCF-4D10-AD2E-CF54EDD0794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168B-EA19-4A6D-8541-7FBF9C2A011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9CDC-C63E-4C86-87BF-BF99D61D162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6EEF-FE78-468C-8884-7BC277C9306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706B-F056-404D-8C40-5771E2344D1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277F-7390-4E19-AA64-FD9AE00857F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1A47-9526-47CB-80E3-9450EA13F48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882D-AD7A-4F90-9671-2237A7A623A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081A-6321-4236-856B-0BE41CDA6DD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B77C-4B38-45A5-81A3-445848CA9FA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ED34-87A6-4046-8105-2332FB18B91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1AA8-9D43-49B2-ADEA-14839CEE7D9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0A86-7AC0-4475-B2DE-F27992318A3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5C14-B8BB-4C42-BB34-A0CB1694243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EF67-D146-4964-A11B-10F11E77F45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